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6CC-F188-4562-997B-4F5358BB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9AE-2391-4913-BF2E-2C9688EC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321-E99E-45A7-B924-A1983FEA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C6A-3B48-4F34-B4F7-C1584731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55D3-7A36-4214-BC0E-240719A2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9F40-BD98-40C9-9AD0-8CF48E98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620F-CC76-4610-B47C-95C85A88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9F7E-664D-408A-91BE-12E35A28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BB9B-AB6B-4680-8227-1B8014D7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0EA2-CE17-42CA-980D-A6E27D24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24AE-C2C5-4691-979B-F61BA62C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386-904D-4AD9-AA4F-D048F403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A7DF-C0D8-42F4-A192-98CF8BE2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6783-86AA-4207-A47F-B275E532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9369-4522-47CA-B0FC-0570AE22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DA89-66DD-4E03-9F40-5D26459B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D882-2FC1-4044-853D-F03312FB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89C-6BDC-48CA-ADD0-C2368E68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33F-7ABA-45B7-8A6D-11866FE9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505-F09C-4C91-BB60-AB5CC27B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25E-A505-487D-8A18-A5682FC0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6C1-00A3-4339-B044-8F5EAF5D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D19-009E-4F87-9FBB-2BB66B52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7E8-4016-4260-AE56-9B6C546B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BC33-016A-4B3D-93B3-2991BFCF4A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019D-2311-426C-931D-1CAB966E749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cc00"/>
                </a:solidFill>
                <a:latin typeface="Garamond"/>
              </a:rPr>
              <a:t>A Remnant Shall Retur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Verdana"/>
              </a:rPr>
              <a:t>Quarter 8, Lesson 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Verdana"/>
              </a:rPr>
              <a:t>Pages 80-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Verdana"/>
              </a:rPr>
              <a:t>Zecharia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4267080" cy="3156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5181480" y="685800"/>
            <a:ext cx="2828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mple Rebuil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3962520"/>
            <a:ext cx="2324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lebration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ssov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5638680"/>
            <a:ext cx="1257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16 BC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53080" y="548640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624852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5880" y="1676520"/>
            <a:ext cx="1943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edo-Persi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eri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553080" y="2743200"/>
            <a:ext cx="11764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rius 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2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During Different Phases of the Return to th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Chronology of Persian Peri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yrus – 539-5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Return of Zerubbabel and Jeshua (Ezra 1-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ambyses -530-52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Rebuilding at Jerusalem stopped (Ezra 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Darius I – 522-48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Haggai and Zechariah prophesy (52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emple completed (516) (Ezra 5-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Greeks defeat Persians at Marathon (49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Xerxes -486-46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Story of Esther (Esther 1-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Garamond"/>
              </a:rPr>
              <a:t>Haggai and Zechariah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Haggai rebuked and admonis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Zechariah encouraged and looked to brighter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Brighter days depend on needed changes of heart and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Zechariah encouraged with many Messianic prom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utline of Zechariah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 Call to Repentance – 1:1-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ight Visions and their Meanings –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:7 – 6: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iders among the mirtles – 1:7-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HEY REPORT PEACE AND RESTORATION OF JERUSA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Four Horns and Four Smiths – 1:18-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hough four horns scattered Israel, smiths or craftsmen will rebui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Man With The Measuring Line – 2:1-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How God will straighten things 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utline of Zechariah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 Call to Repentance – 1:1-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ight Visions and their Meanings –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:7 – 6: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Joshua tried and acquitted – 3:1-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Golden Lampstand and Two Olive Trees – 4:1-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storation of Light to Isra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wo anointed – Priest-King Combi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Flying Scroll – 5:1-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ndemning stealing and lying in the 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utline of Zechariah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 Call to Repentance – 1:1-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ight Visions and their Meanings –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:7 – 6: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Woman in the Ephah Basket – 5:5-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Wickedness will be carried out of the 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Four Chariots – 6:1-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ath and destruction to the north cou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 mixture of hardship and protection to the land of Isra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limax of the Visions in the Crowning of Joshua – 6:9-1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utline of Zechariah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 Call to Repentance – 1:1-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ight Visions and their Meanings –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:7 – 6: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he Question of Fasting – 7:1 – 8:2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Fasting is useless without obed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rophecies Concerning The Nations and the Kingdom of God – 9:1 – 11: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Temple is Finish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zra 5: 1 – 6:2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Despite many obstacles in the w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Darius researched and found that Cyrus had indeed granted the Jews permission to rebuild the te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he temple is finished during the 6</a:t>
            </a:r>
            <a:r>
              <a:rPr b="0" lang="en-US" sz="2800" spc="-1" strike="noStrike" baseline="30000">
                <a:solidFill>
                  <a:srgbClr val="ffff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year of Darius’ re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Joy and dedication of the temple 6:16-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he celebration of Passover – 6:19-2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14:41Z</dcterms:created>
  <dc:creator>Terry W. Benton</dc:creator>
  <dc:description/>
  <dc:language>en-US</dc:language>
  <cp:lastModifiedBy>Frank D Vines</cp:lastModifiedBy>
  <dcterms:modified xsi:type="dcterms:W3CDTF">2006-02-17T03:23:04Z</dcterms:modified>
  <cp:revision>3</cp:revision>
  <dc:subject/>
  <dc:title>A Remnant Shall Return</dc:title>
</cp:coreProperties>
</file>